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67B4-8FD1-404C-A349-43C692B3C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095F-712F-443C-8C29-FDBCF267F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354-1420-468C-A136-370220DA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320-9079-4984-9AB9-2BBF3DFD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28D-E3E1-4F20-8FC0-EAC7E0D4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63D-BAFD-48CC-91EC-D2BA5577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B5EA-428F-422F-92AF-222F0D05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8155-1CCA-48FF-827D-56218352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9DF5-535A-48C8-AE74-24075A86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5A50-B2EB-4E93-9517-7F70236A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64C7-D6C8-45AB-8FA9-74A1916D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88A0-C583-47F8-977C-C6192AB4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4403-A98B-4487-88C3-9868EFC5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04D-0227-4C06-8C42-8574F72A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3185-A111-4D20-B4F3-1E077194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1E69-57E1-4611-B5F0-AFCEB346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3424-0D6C-4989-9969-222631BA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032C-B81F-4881-84E0-373B70C4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E297-0DCD-43E7-882F-AFA79178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727D0-60F9-4E92-ADE6-8DF51F9F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B24DF-5133-418C-8409-C7B2B1BA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3B718-F993-40A9-9906-5C11720F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7377A-FE49-44B0-B288-FEEDB2AA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363F1-CFAA-4DC8-BCD6-C9ACA66B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992-04C1-49A9-AAC9-DACEDC25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19C38-3AF2-45A7-959A-89DB31ED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0C78E-FB0F-49AE-BB44-C6E6A67A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EF7B9-F4AE-49C5-B14D-33AE96F6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66CAC-8D03-4719-8ECC-7E9458F3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01356-49BC-417C-8553-882366D3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EBA68-8B0F-4CDC-B1B8-469B8331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FA659-3348-464F-9314-BCD8FDF1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0C958-2FD7-4E70-943F-067AED93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26EF7-58AF-406E-AF3B-62FA8A00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09C55-2E7F-4696-98EB-6208C04C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350-A3A8-4A15-877E-D3D11944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4329C-C00B-4159-A51C-49AA1CD6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41511-F9ED-4115-A61E-4BE003D8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08A0E-CB75-43BC-A107-7A887302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A3B79-9A0A-499C-82DD-576E38A4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8A4F0-52DF-457E-862B-28373BE0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65C85-1054-4B16-BF95-A8A024D6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EF936-FD27-4FC2-842B-4B77EDF4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3DF42-824B-42A3-B07A-709CAB21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2C263-BDDA-4254-A727-1C64A6D8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8B1-806C-4C57-9EA6-854581B2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A66-14BC-43B5-954D-DCA4D688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4DD-2CAB-4E0A-B10E-C3785323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1B4-F64A-49AA-97C3-E3E5190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659-A3A6-4B44-B9FA-8EDA5447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0682-6D37-4925-A53E-B175519D0F10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3CCA-BC2E-4108-863D-B1CE0D59511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DC7D-8F45-496A-BA3D-B4FA9571E842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9359-2537-40AE-8476-D0783D8DAF8B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EE01-BFC5-418F-881F-1176B0E08ED8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6309-EFEB-4818-BF61-EAD5FA60C02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C14D-B293-4A22-9FF1-C2066F50BE81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1C91-3659-4425-A0F7-FEE04AE728E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South Dakota AFNR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Academic Integration Activities: Example #13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920" y="2323800"/>
            <a:ext cx="69580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a student is given the equation for a supply curve for a sweet corn stand as p = .025x + 1. They would like to know the ideal price if they wanted to sell 144 dozen sweet corn in one day at a farmers market. What would that price be per dozen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nswer: $4.6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 = .025(144) + 1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09480" y="190008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Verdana"/>
              </a:rPr>
              <a:t>Agribusiness Entrepreneurship students will be able to comprehend equivalent forms of algebraic expressions when studying supply and demand curve form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g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gribusiness Entrepreneurship, E 1.2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evelop management skills necessary to accomplish general business activiti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llustrate basic economic concepts to a given set of financial situations including opportunity cost, supply and demand and diminishing return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cademic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9-12.A.1.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tudents are able to write equivalent forms of algebraic expressions using properties of the set of real numbers (Comprehension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Evaluate algebraic expression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Use conventional order of operation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ackground Informa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920" y="2323800"/>
            <a:ext cx="74152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hen evaluating simple algebraic expressions, all unknowns (typically expressed as a letter) are replaced with real number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xample: 3x + 2x when x = 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lug in 5 for x to get 3(5) + 2 (5) = 15 + 10 = 25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 order of operations for algebraic equations follow this sequence: parentheses – exponents – multiply – divide – add – subtrac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920" y="2323800"/>
            <a:ext cx="70344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4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a student is given the equation for a demand line to be p = -1x +25 where p represents price per item sold and x is the number of items sold at that price. What would the ideal price need to be for a company to make and sell 20 items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2120" indent="-24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lug 20 in for x and solve for p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 = -1(20) + 2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 = -20 + 2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 =  $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40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a student is given the equation for a supply curve to be p = 2x +5 where p represents price per item sold and x is the number of items sold at that price. What would be the price needed for a company to make and sell just one item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lug 1 in for x and solve for p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562680" indent="-2401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 = 2(1) + 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62680" indent="-2401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 = 2 + 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62680" indent="-2401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 = $7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920" y="2323800"/>
            <a:ext cx="69580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a student is analyzing a demand curve for a business selling hay bales. They would like to know the quantity (x), of hay bales that could be sold at a price (p) of $25 per bale. The equation for the graph is p =- 2(x) + 35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920" y="2323800"/>
            <a:ext cx="69580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nswer: 5 bal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 = -2(x) + 3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25 = -2x +3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25 – 35 = -2x = 35 – 3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-10  =  -2x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-10    -2x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-2      -2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x = 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9" name="Straight Connector 2"/>
          <p:cNvSpPr/>
          <p:nvPr/>
        </p:nvSpPr>
        <p:spPr>
          <a:xfrm>
            <a:off x="1781280" y="4784760"/>
            <a:ext cx="45720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"/>
          <p:cNvSpPr/>
          <p:nvPr/>
        </p:nvSpPr>
        <p:spPr>
          <a:xfrm>
            <a:off x="2438280" y="4784760"/>
            <a:ext cx="45720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2193480" y="458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 Matzner</cp:lastModifiedBy>
  <dcterms:modified xsi:type="dcterms:W3CDTF">2011-08-04T18:18:27Z</dcterms:modified>
  <cp:revision>95</cp:revision>
  <dc:subject/>
  <dc:title>South Dakota Ag Education</dc:title>
</cp:coreProperties>
</file>